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A88-383D-426E-941D-BCEA980B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387-13FE-4DD8-BEB2-93CE61DE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D68-EF15-41FB-8DEB-FAC54C65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221-23A8-41E9-8581-96E27A99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2B51-85F7-43DB-B9CA-124E6BDA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6E65-3CAE-4E11-B84A-7F7EAAD2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5093-F1A9-4E5E-A0F4-56AFFEBA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6F7B-3BFA-48D8-B366-ABA69CB7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A5F9-D4A0-4FA5-89D8-C99ED28E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3BD2-E8EA-42BD-A7AE-1E40E0C2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2D7D-7087-4881-92D5-1EE32E16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512-0F27-4B44-824D-DA3893B4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611E-F8EB-46A5-A3DE-AD52BC73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505E-32AE-435F-AC82-B8EB2BB3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1486-B504-4B2D-A3E5-E63670FE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3CF1-D7F8-49CF-A733-559207F5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90BB-5328-4DC2-BD67-BE43F6A5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E06-9DCB-42A6-9CE4-15590DAE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E7E-D0A0-4A4B-A0EE-C6970858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CBA-533F-42FF-BAA0-C43BEA7E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528-7341-486A-BA49-CB70BDD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203-1FD5-4281-8A23-463A6B2F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4DD-CC10-4B94-A115-B91BFDC1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FB8-772C-405E-8F21-2C646C00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737F-A272-403A-8827-EA979168FCC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ED29-8ABA-446E-ABAB-06DB5C7E418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84120" y="1365120"/>
            <a:ext cx="8497800" cy="1841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really care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Daniel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6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one really should ever give any attention to this figure of history because this guy suck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r mom, last night. 201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20:16:02Z</dcterms:created>
  <dc:creator>Profile</dc:creator>
  <dc:description/>
  <dc:language>en-US</dc:language>
  <cp:lastModifiedBy>Profile</cp:lastModifiedBy>
  <dcterms:modified xsi:type="dcterms:W3CDTF">2010-01-07T20:20:49Z</dcterms:modified>
  <cp:revision>3</cp:revision>
  <dc:subject/>
  <dc:title>Alexander the great </dc:title>
</cp:coreProperties>
</file>